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737-BF16-42EF-BBF1-72964487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3FA-6408-40A7-A0D4-1DC10F9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3BD-1765-46DA-B790-D04BCF46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65F-E343-4988-97A6-23B05839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464-E8EE-4138-B9AA-A20826A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603-5157-4B8F-94D3-A293B57B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3C4-4A42-4A9B-82C5-2E3BE5AE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AEB-3764-48F2-B922-F1812F5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77E-569B-4ED3-B260-B80552C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6B1-3BA2-4C74-9185-8D21B73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D40-30A2-41C5-A09A-44EC541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6A8-42AE-436F-80FA-DA9CDB8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92BF-F69B-4333-AD83-757578DF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43:33Z</dcterms:created>
  <dc:creator>Berg, Robert L</dc:creator>
  <dc:description/>
  <dc:language>en-US</dc:language>
  <cp:lastModifiedBy>Berg, Robert L</cp:lastModifiedBy>
  <dcterms:modified xsi:type="dcterms:W3CDTF">2008-03-03T18:44:42Z</dcterms:modified>
  <cp:revision>1</cp:revision>
  <dc:subject/>
  <dc:title>Slide 1</dc:title>
</cp:coreProperties>
</file>