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6C7-51AF-49C2-B0F1-AC8B17CC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6CE-6458-42ED-8A1E-04A8E36D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A5B-4678-4AA3-A198-CDC84917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BF1-7960-4D4C-BAA2-06958C11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9BE-FBE8-4548-9FE7-34C30B05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D7F-681D-4170-A643-DDEF0200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312-2B7F-4FA6-80B4-BAA47A31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2A0-5F97-401F-BD9B-13CA3F81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8AA-41D1-400C-8DCD-D00EEA53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765-A2D2-4E99-AE57-41825B66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286-7386-476A-8A3A-8C20337E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EB0-2BE5-440A-ACEB-AF420331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FA2D-4161-4DB5-A61D-8AA0AEE7B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8:43:33Z</dcterms:created>
  <dc:creator>Berg, Robert L</dc:creator>
  <dc:description/>
  <dc:language>en-US</dc:language>
  <cp:lastModifiedBy>Berg, Robert L</cp:lastModifiedBy>
  <dcterms:modified xsi:type="dcterms:W3CDTF">2008-03-03T18:44:42Z</dcterms:modified>
  <cp:revision>1</cp:revision>
  <dc:subject/>
  <dc:title>Slide 1</dc:title>
</cp:coreProperties>
</file>