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275-9E52-4FC9-81B1-7B20CD21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29CA-F341-4EE1-893D-DC9EFCF1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45A-B9F2-4D25-BBBE-24072FCF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A89-9AA2-4438-A82A-D11A365A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824-81F3-4A82-91D0-2C16F559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D5D-F82A-4947-A95E-0A20BF1F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67F-1FF8-498D-97F8-D3431FAB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797-3524-4E5F-9131-AD4135FC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834-5127-4682-B1E3-4CB91852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C95B-53BD-46B5-9E02-87EB7CA9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72B-0E3C-4CE4-9E9E-B53BF302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8822-22E4-495D-AED9-C415F056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B506-7DE3-4E47-BEB1-093FD6AB7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8:43:33Z</dcterms:created>
  <dc:creator>Berg, Robert L</dc:creator>
  <dc:description/>
  <dc:language>en-US</dc:language>
  <cp:lastModifiedBy>Berg, Robert L</cp:lastModifiedBy>
  <dcterms:modified xsi:type="dcterms:W3CDTF">2008-03-03T18:44:42Z</dcterms:modified>
  <cp:revision>1</cp:revision>
  <dc:subject/>
  <dc:title>Slide 1</dc:title>
</cp:coreProperties>
</file>