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D3FD-9630-49F5-AF97-5AD323C4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AD42-BE49-43AC-AD7B-23F76659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44E4-944D-479D-8817-62E37383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DA73-BAF3-4C9F-B3CE-6A5835CE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78D8-D537-45FC-88C0-EBD53E74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2044-F69D-4F1F-83CC-B6F51F97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EAB5-4DEF-4CB1-A351-1F31E3D7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305D-7DDD-4364-B666-99D5C05A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8E4-C6BC-4FE9-8D80-BC271FB1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81C8-0811-4AC0-A5D0-9239BC0A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3AF2-E2FB-44B7-98DC-6E1D8915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4EE3-365C-4F49-9E33-DB94DE5F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BF22-BF29-4575-9AFE-46DBD8D77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2960" y="2046240"/>
            <a:ext cx="10076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N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av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pend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i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l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06920" y="2046240"/>
            <a:ext cx="10076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N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at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pend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i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l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65960" y="2046240"/>
            <a:ext cx="9892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N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at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pend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e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l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82480" y="609480"/>
            <a:ext cx="4183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4920" y="609480"/>
            <a:ext cx="8452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IN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419720" y="837720"/>
            <a:ext cx="8380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838080"/>
            <a:ext cx="5331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2274840"/>
            <a:ext cx="202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65680" y="227484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7360" y="175248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ition v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 pointer va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1676520"/>
            <a:ext cx="14479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15960" y="5170320"/>
            <a:ext cx="692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EE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97600" y="5170320"/>
            <a:ext cx="1817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CKED_ON_MONITOR_EN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5840" y="5170320"/>
            <a:ext cx="10555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_OBJECT_WA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6068880"/>
            <a:ext cx="3505320" cy="7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USPEND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GC-able states on this diagram can be suspend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C suspend and java.lang.Thread.susp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hare the same safepoint proper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ave separate and distinct suspend/resume count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4440" y="5170320"/>
            <a:ext cx="601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133720" y="2666520"/>
            <a:ext cx="5333760" cy="2427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809880" y="2895120"/>
            <a:ext cx="358164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2895120"/>
            <a:ext cx="243864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172200" y="2743200"/>
            <a:ext cx="175248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905120" y="4343400"/>
            <a:ext cx="1676160" cy="75096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657600" y="4343040"/>
            <a:ext cx="1219320" cy="76212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029200" y="4343040"/>
            <a:ext cx="914400" cy="76212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095880" y="4343400"/>
            <a:ext cx="533520" cy="75096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9200" y="6019920"/>
            <a:ext cx="5086440" cy="7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K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lang.InterruptedException caused by java.lang.Thread.interrupt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iet exception -- see java.util.concurrent.locks.LockSupport.park()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ead_stop_call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m_shutdown_callback (moves any state to TERMINATED, not shown to reduce clutte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599920" y="4191120"/>
            <a:ext cx="479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3040" y="3733920"/>
            <a:ext cx="283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ition v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1)   java.lang.Thread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)   synchronized keyw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)   java.lang.Object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)   j.util.concurrent.locks.LockSupport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l)  stop and shutdown call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657600"/>
            <a:ext cx="259092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0180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6840" y="762120"/>
            <a:ext cx="319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 GC-able states  (transition on thread-&gt;disable_count  set to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C-able states (transition on thread-&gt;disable_count set to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67080" y="990360"/>
            <a:ext cx="167652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52280" y="34290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943240" y="990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81960" y="4648320"/>
            <a:ext cx="4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,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7440" y="4648320"/>
            <a:ext cx="4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,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12640" y="4648320"/>
            <a:ext cx="51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E,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31840" y="4648320"/>
            <a:ext cx="3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7720" y="2746440"/>
            <a:ext cx="1716840" cy="7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NNABLE GC-able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av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set disable_count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jvmti break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JIT back-branch pol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762120"/>
            <a:ext cx="838440" cy="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60440" y="533520"/>
            <a:ext cx="3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72200" y="2209680"/>
            <a:ext cx="990720" cy="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54160" y="2057400"/>
            <a:ext cx="3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22400" y="1482840"/>
            <a:ext cx="1012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_NA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rty JNI 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4872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20800" y="1523880"/>
            <a:ext cx="3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419720" y="1294920"/>
            <a:ext cx="457200" cy="68580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673600"/>
            <a:ext cx="29718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VMT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uses the following transitions: SUSPENDED, E,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680" y="274680"/>
            <a:ext cx="864072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d Disable/Enable Timing Diagram ( no lock cmpxchg, no mf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85960" y="1873080"/>
            <a:ext cx="92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648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06480" y="95256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28800" y="9525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28800" y="1873080"/>
            <a:ext cx="92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64968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49680" y="95256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9525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1873080"/>
            <a:ext cx="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2924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628880" y="9525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94320" y="9525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94320" y="1873080"/>
            <a:ext cx="80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30072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00720" y="952560"/>
            <a:ext cx="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57960" y="9525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57960" y="1873080"/>
            <a:ext cx="13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68348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83480" y="952560"/>
            <a:ext cx="138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74680" y="3255840"/>
            <a:ext cx="92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95560" y="23349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95560" y="233532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17880" y="233532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17880" y="3255840"/>
            <a:ext cx="92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938760" y="23349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38760" y="2335320"/>
            <a:ext cx="18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83400" y="233532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83400" y="3255840"/>
            <a:ext cx="24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201160" y="23349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01160" y="23353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33120" y="1717560"/>
            <a:ext cx="136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ead-&gt;disable_count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6000" y="909720"/>
            <a:ext cx="136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ead-&gt;disable_count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36360" y="1298520"/>
            <a:ext cx="19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RGET THREAD DO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32400" y="2681280"/>
            <a:ext cx="194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OR THREAD SE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28800" y="342900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16080" y="342900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28800" y="36021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83480" y="3429000"/>
            <a:ext cx="0" cy="276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01160" y="3429000"/>
            <a:ext cx="0" cy="276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83480" y="3602160"/>
            <a:ext cx="517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572000" y="3429000"/>
            <a:ext cx="0" cy="10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300720" y="3428640"/>
            <a:ext cx="0" cy="190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3720" y="3716280"/>
            <a:ext cx="308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E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or thread sees disable_count = 0 l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act: very minor increase in lat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36880" y="4351320"/>
            <a:ext cx="3087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E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W write combining  inside the stor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or thread never sees disable_count =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act: very minor increase in lat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5099040"/>
            <a:ext cx="3087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E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W write combining  inside the stor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or thread never sees disable_count =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act: potential race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2600" y="6048360"/>
            <a:ext cx="308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E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or thread sees disable_count = 1 l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act: potential race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1T23:28:22Z</dcterms:created>
  <dc:creator>weldon</dc:creator>
  <dc:description/>
  <dc:language>en-US</dc:language>
  <cp:lastModifiedBy>weldon</cp:lastModifiedBy>
  <dcterms:modified xsi:type="dcterms:W3CDTF">2007-08-20T17:15:29Z</dcterms:modified>
  <cp:revision>94</cp:revision>
  <dc:subject/>
  <dc:title>Thread State Diagrams</dc:title>
</cp:coreProperties>
</file>