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951663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67B52-8EEF-4B8B-A8A0-8CE489C8F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41C5D-7DC3-4C61-93C8-6A25BD6D5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473F1-FF2B-479B-ABBE-7063A1B8F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B0D4B-56CC-4851-AEBA-677F08AB0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87B43-96AA-423D-817D-24181EFF5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9D909-2B2E-4C0A-98B1-46DF5707B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B117D-D2E2-4520-BCB1-45BDBF62C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B0B4B-907C-4D96-9DCE-A46BEAA8E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F4841-27DB-499E-A110-3137B34AA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054FB-9C28-4550-AB0D-1D15722BC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E3158-C07D-48E0-8639-FA82031DB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CD247-ABBA-4A99-9FEC-9532A2165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A6D3C-7C5A-4B02-8F78-AF9D557C3C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42960" y="2046240"/>
            <a:ext cx="1007640" cy="45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UNNAB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java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uspend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di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bl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706920" y="2046240"/>
            <a:ext cx="1007640" cy="45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UNNAB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nativ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co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uspend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di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bl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7365960" y="2046240"/>
            <a:ext cx="989280" cy="45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UNNAB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nativ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co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uspend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en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bl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82480" y="609480"/>
            <a:ext cx="41832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W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804920" y="609480"/>
            <a:ext cx="84528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RMINAT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419720" y="837720"/>
            <a:ext cx="83808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505320" y="838080"/>
            <a:ext cx="53316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76520" y="2274840"/>
            <a:ext cx="2022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765680" y="2274840"/>
            <a:ext cx="2590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097360" y="1752480"/>
            <a:ext cx="125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ransition vi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truction pointer val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81080" y="1676520"/>
            <a:ext cx="144792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515960" y="5170320"/>
            <a:ext cx="69264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EEP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97600" y="5170320"/>
            <a:ext cx="181764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LOCKED_ON_MONITOR_EN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425840" y="5170320"/>
            <a:ext cx="105552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_OBJECT_WAI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410080" y="6068880"/>
            <a:ext cx="3505320" cy="70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SUSPEND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l GC-able states on this diagram can be suspend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C suspend and java.lang.Thread.suspe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share the same safepoint property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have separate and distinct suspend/resume counting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644440" y="5170320"/>
            <a:ext cx="6012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RK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2133720" y="2666520"/>
            <a:ext cx="5333760" cy="2427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3809880" y="2895120"/>
            <a:ext cx="3581640" cy="22100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5181480" y="2895120"/>
            <a:ext cx="2438640" cy="22100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6172200" y="2743200"/>
            <a:ext cx="1752480" cy="2362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1905120" y="4343400"/>
            <a:ext cx="1676160" cy="750960"/>
          </a:xfrm>
          <a:prstGeom prst="line">
            <a:avLst/>
          </a:prstGeom>
          <a:ln cap="rnd" w="25560">
            <a:solidFill>
              <a:srgbClr val="80808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3657600" y="4343040"/>
            <a:ext cx="1219320" cy="762120"/>
          </a:xfrm>
          <a:prstGeom prst="line">
            <a:avLst/>
          </a:prstGeom>
          <a:ln cap="rnd" w="25560">
            <a:solidFill>
              <a:srgbClr val="80808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5029200" y="4343040"/>
            <a:ext cx="914400" cy="762120"/>
          </a:xfrm>
          <a:prstGeom prst="line">
            <a:avLst/>
          </a:prstGeom>
          <a:ln cap="rnd" w="25560">
            <a:solidFill>
              <a:srgbClr val="80808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6095880" y="4343400"/>
            <a:ext cx="533520" cy="750960"/>
          </a:xfrm>
          <a:prstGeom prst="line">
            <a:avLst/>
          </a:prstGeom>
          <a:ln cap="rnd" w="25560">
            <a:solidFill>
              <a:srgbClr val="80808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9200" y="6019920"/>
            <a:ext cx="5086440" cy="70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KE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va.lang.InterruptedException caused by java.lang.Thread.interrupt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Q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quiet exception -- see java.util.concurrent.locks.LockSupport.park() ap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read_stop_call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m_shutdown_callback (moves any state to TERMINATED, not shown to reduce clutter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2599920" y="4191120"/>
            <a:ext cx="47912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3040" y="3733920"/>
            <a:ext cx="2831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ransition vi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1)   java.lang.Thread AP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)   synchronized keywor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3)   java.lang.Object AP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4)   j.util.concurrent.locks.LockSupport AP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ll)  stop and shutdown callback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3657600"/>
            <a:ext cx="2590920" cy="1143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701800" y="2133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946840" y="762120"/>
            <a:ext cx="3192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n GC-able states  (transition on thread-&gt;disable_count  set to 1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C-able states (transition on thread-&gt;disable_count set to 0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267080" y="990360"/>
            <a:ext cx="1676520" cy="2438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52280" y="3429000"/>
            <a:ext cx="4114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5943240" y="990720"/>
            <a:ext cx="30481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181960" y="4648320"/>
            <a:ext cx="438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, 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077440" y="4648320"/>
            <a:ext cx="438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, 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912640" y="4648320"/>
            <a:ext cx="517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QE, 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831840" y="4648320"/>
            <a:ext cx="311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7720" y="2746440"/>
            <a:ext cx="1716840" cy="70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UNNABLE GC-able in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java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co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-- set disable_count = 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-- jvmti breakpoi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-- JIT back-branch poll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809880" y="762120"/>
            <a:ext cx="838440" cy="0"/>
          </a:xfrm>
          <a:prstGeom prst="line">
            <a:avLst/>
          </a:prstGeom>
          <a:ln cap="rnd" w="25560">
            <a:solidFill>
              <a:srgbClr val="80808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060440" y="533520"/>
            <a:ext cx="311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172200" y="2209680"/>
            <a:ext cx="990720" cy="0"/>
          </a:xfrm>
          <a:prstGeom prst="line">
            <a:avLst/>
          </a:prstGeom>
          <a:ln cap="rnd" w="25560">
            <a:solidFill>
              <a:srgbClr val="80808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554160" y="2057400"/>
            <a:ext cx="311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2514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22400" y="1482840"/>
            <a:ext cx="101232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_NATIV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party JNI co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848720" y="18288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420800" y="1523880"/>
            <a:ext cx="311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4419720" y="1294920"/>
            <a:ext cx="457200" cy="685800"/>
          </a:xfrm>
          <a:prstGeom prst="line">
            <a:avLst/>
          </a:prstGeom>
          <a:ln cap="rnd" w="25560">
            <a:solidFill>
              <a:srgbClr val="80808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095880" y="5673600"/>
            <a:ext cx="29718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JVMT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uses the following transitions: SUSPENDED, E, 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93680" y="274680"/>
            <a:ext cx="864072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spend Disable/Enable Timing Diagram ( no lock cmpxchg, no mfe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885960" y="1873080"/>
            <a:ext cx="920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6480" y="952200"/>
            <a:ext cx="0" cy="920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806480" y="952560"/>
            <a:ext cx="922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728800" y="952560"/>
            <a:ext cx="0" cy="920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728800" y="1873080"/>
            <a:ext cx="92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3649680" y="952200"/>
            <a:ext cx="0" cy="920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649680" y="952560"/>
            <a:ext cx="922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572000" y="952560"/>
            <a:ext cx="0" cy="920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0" y="1873080"/>
            <a:ext cx="57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629240" y="952200"/>
            <a:ext cx="0" cy="920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4628880" y="952560"/>
            <a:ext cx="86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494320" y="952560"/>
            <a:ext cx="0" cy="920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494320" y="1873080"/>
            <a:ext cx="806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6300720" y="952200"/>
            <a:ext cx="0" cy="920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00720" y="952560"/>
            <a:ext cx="57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357960" y="952560"/>
            <a:ext cx="0" cy="920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357960" y="1873080"/>
            <a:ext cx="1325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7683480" y="952200"/>
            <a:ext cx="0" cy="920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683480" y="952560"/>
            <a:ext cx="1381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174680" y="3255840"/>
            <a:ext cx="92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2095560" y="2334960"/>
            <a:ext cx="0" cy="920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095560" y="2335320"/>
            <a:ext cx="922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017880" y="2335320"/>
            <a:ext cx="0" cy="920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017880" y="3255840"/>
            <a:ext cx="92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3938760" y="2334960"/>
            <a:ext cx="0" cy="920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938760" y="2335320"/>
            <a:ext cx="1842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783400" y="2335320"/>
            <a:ext cx="0" cy="920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783400" y="3255840"/>
            <a:ext cx="2417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8201160" y="2334960"/>
            <a:ext cx="0" cy="920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8201160" y="233532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-33120" y="1717560"/>
            <a:ext cx="1364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read-&gt;disable_count = 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86000" y="909720"/>
            <a:ext cx="1364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read-&gt;disable_count = 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-36360" y="1298520"/>
            <a:ext cx="1958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RGET THREAD DOE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-32400" y="2681280"/>
            <a:ext cx="1942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ESTOR THREAD SEE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728800" y="3429000"/>
            <a:ext cx="0" cy="40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016080" y="3429000"/>
            <a:ext cx="0" cy="40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728800" y="360216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683480" y="3429000"/>
            <a:ext cx="0" cy="2765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8201160" y="3429000"/>
            <a:ext cx="0" cy="2765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683480" y="3602160"/>
            <a:ext cx="517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4572000" y="3429000"/>
            <a:ext cx="0" cy="1093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300720" y="3428640"/>
            <a:ext cx="0" cy="1901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23720" y="3716280"/>
            <a:ext cx="3087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ASE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estor thread sees disable_count = 0 l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pact: very minor increase in lat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36880" y="4351320"/>
            <a:ext cx="30877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ASE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W write combining  inside the store buf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estor thread never sees disable_count = 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pact: very minor increase in lat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0" y="5099040"/>
            <a:ext cx="30877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ASE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W write combining  inside the store buf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estor thread never sees disable_count =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mpact: potential race condi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862600" y="6048360"/>
            <a:ext cx="3087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ASE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estor thread sees disable_count = 1 l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mpact: potential race condi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1T23:28:22Z</dcterms:created>
  <dc:creator>weldon</dc:creator>
  <dc:description/>
  <dc:language>en-US</dc:language>
  <cp:lastModifiedBy>weldon</cp:lastModifiedBy>
  <dcterms:modified xsi:type="dcterms:W3CDTF">2007-08-20T17:15:29Z</dcterms:modified>
  <cp:revision>94</cp:revision>
  <dc:subject/>
  <dc:title>Thread State Diagrams</dc:title>
</cp:coreProperties>
</file>