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A6D9-06E6-4E25-ADC0-139C3A0FF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2A4D-C629-45BA-97E4-EF06D5F8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9EBD-729A-45DF-86CF-44912C10D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34CD-8BAC-410A-BDAA-60E484F1D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EF5C-EB33-41C9-BFD2-AE874CF2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B685-78F0-4C0F-8E1B-3B192946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5DEE-11E5-461E-A03B-2F3C96D7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9FE1-8ADA-4F65-8FB2-0769D1E7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DFB8-CFD8-446C-A5C1-7A4087F8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D7B8-700A-4116-9A41-7BF4B5F8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B670-72CD-4F48-B360-43BB4D75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5E55-123E-40DC-837D-DD8E4171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E84B-45BC-4C90-BA40-53859B510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2960" y="2046240"/>
            <a:ext cx="100764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NN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java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pend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di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l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06920" y="2046240"/>
            <a:ext cx="100764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NN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nati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c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pend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di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l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365960" y="2046240"/>
            <a:ext cx="9892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NN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nati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c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pend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e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l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82480" y="609480"/>
            <a:ext cx="4183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04920" y="609480"/>
            <a:ext cx="8452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RMIN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419720" y="837720"/>
            <a:ext cx="8380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05320" y="838080"/>
            <a:ext cx="5331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2274840"/>
            <a:ext cx="2022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65680" y="227484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97360" y="1752480"/>
            <a:ext cx="12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ition v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ion pointer val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1676520"/>
            <a:ext cx="14479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15960" y="5170320"/>
            <a:ext cx="6926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EE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97600" y="5170320"/>
            <a:ext cx="18176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CKED_ON_MONITOR_EN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25840" y="5170320"/>
            <a:ext cx="10555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_OBJECT_WA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10080" y="6068880"/>
            <a:ext cx="3505320" cy="70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SUSPEND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 GC-able states on this diagram can be suspend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C suspend and java.lang.Thread.susp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hare the same safepoint propert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ave separate and distinct suspend/resume counting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44440" y="5170320"/>
            <a:ext cx="601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K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133720" y="2666520"/>
            <a:ext cx="5333760" cy="2427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809880" y="2895120"/>
            <a:ext cx="3581640" cy="2210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2895120"/>
            <a:ext cx="2438640" cy="2210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6172200" y="2743200"/>
            <a:ext cx="1752480" cy="2362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905120" y="4343400"/>
            <a:ext cx="1676160" cy="750960"/>
          </a:xfrm>
          <a:prstGeom prst="line">
            <a:avLst/>
          </a:prstGeom>
          <a:ln cap="rnd" w="255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657600" y="4343040"/>
            <a:ext cx="1219320" cy="762120"/>
          </a:xfrm>
          <a:prstGeom prst="line">
            <a:avLst/>
          </a:prstGeom>
          <a:ln cap="rnd" w="255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029200" y="4343040"/>
            <a:ext cx="914400" cy="762120"/>
          </a:xfrm>
          <a:prstGeom prst="line">
            <a:avLst/>
          </a:prstGeom>
          <a:ln cap="rnd" w="255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095880" y="4343400"/>
            <a:ext cx="533520" cy="750960"/>
          </a:xfrm>
          <a:prstGeom prst="line">
            <a:avLst/>
          </a:prstGeom>
          <a:ln cap="rnd" w="255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9200" y="6019920"/>
            <a:ext cx="5086440" cy="70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KE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lang.InterruptedException caused by java.lang.Thread.interrupt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uiet exception -- see java.util.concurrent.locks.LockSupport.park()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read_stop_call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m_shutdown_callback (moves any state to TERMINATED, not shown to reduce clutte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599920" y="4191120"/>
            <a:ext cx="479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3040" y="3733920"/>
            <a:ext cx="2831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ition v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1)   java.lang.Thread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)   synchronized keywo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)   java.lang.Object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4)   j.util.concurrent.locks.LockSupport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ll)  stop and shutdown call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657600"/>
            <a:ext cx="259092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0180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46840" y="762120"/>
            <a:ext cx="319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 GC-able states  (transition on thread-&gt;disable_count  set to 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C-able states (transition on thread-&gt;disable_count set to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267080" y="990360"/>
            <a:ext cx="1676520" cy="243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52280" y="342900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943240" y="9907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81960" y="4648320"/>
            <a:ext cx="43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, 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77440" y="4648320"/>
            <a:ext cx="43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, 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912640" y="4648320"/>
            <a:ext cx="51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E, 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31840" y="4648320"/>
            <a:ext cx="31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7720" y="2746440"/>
            <a:ext cx="1716840" cy="70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NNABLE GC-able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jav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c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- set disable_count 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- jvmti break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- JIT back-branch pol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9880" y="762120"/>
            <a:ext cx="838440" cy="0"/>
          </a:xfrm>
          <a:prstGeom prst="line">
            <a:avLst/>
          </a:prstGeom>
          <a:ln cap="rnd" w="255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60440" y="533520"/>
            <a:ext cx="31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172200" y="2209680"/>
            <a:ext cx="990720" cy="0"/>
          </a:xfrm>
          <a:prstGeom prst="line">
            <a:avLst/>
          </a:prstGeom>
          <a:ln cap="rnd" w="255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54160" y="2057400"/>
            <a:ext cx="31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22400" y="1482840"/>
            <a:ext cx="1012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_NA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rty JNI c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848720" y="18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20800" y="1523880"/>
            <a:ext cx="31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419720" y="1294920"/>
            <a:ext cx="457200" cy="685800"/>
          </a:xfrm>
          <a:prstGeom prst="line">
            <a:avLst/>
          </a:prstGeom>
          <a:ln cap="rnd" w="255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673600"/>
            <a:ext cx="29718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JVMT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uses the following transitions: SUSPENDED, E, 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3680" y="274680"/>
            <a:ext cx="864072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pend Disable/Enable Timing Diagram ( no lock cmpxchg, no mf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85960" y="1873080"/>
            <a:ext cx="920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6480" y="95220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06480" y="95256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28800" y="95256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728800" y="1873080"/>
            <a:ext cx="92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649680" y="95220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49680" y="95256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95256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1873080"/>
            <a:ext cx="5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29240" y="95220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628880" y="95256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94320" y="95256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94320" y="1873080"/>
            <a:ext cx="80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300720" y="95220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00720" y="952560"/>
            <a:ext cx="5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57960" y="95256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57960" y="1873080"/>
            <a:ext cx="132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7683480" y="95220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83480" y="952560"/>
            <a:ext cx="138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74680" y="3255840"/>
            <a:ext cx="92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095560" y="233496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95560" y="2335320"/>
            <a:ext cx="9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17880" y="233532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17880" y="3255840"/>
            <a:ext cx="92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938760" y="233496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38760" y="2335320"/>
            <a:ext cx="184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83400" y="233532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83400" y="3255840"/>
            <a:ext cx="241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8201160" y="2334960"/>
            <a:ext cx="0" cy="92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201160" y="23353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33120" y="1717560"/>
            <a:ext cx="136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read-&gt;disable_count 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6000" y="909720"/>
            <a:ext cx="136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read-&gt;disable_count 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36360" y="1298520"/>
            <a:ext cx="1958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RGET THREAD DO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32400" y="2681280"/>
            <a:ext cx="194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OR THREAD SE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28800" y="3429000"/>
            <a:ext cx="0" cy="4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16080" y="3429000"/>
            <a:ext cx="0" cy="4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28800" y="36021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83480" y="3429000"/>
            <a:ext cx="0" cy="276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201160" y="3429000"/>
            <a:ext cx="0" cy="276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83480" y="3602160"/>
            <a:ext cx="517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572000" y="3429000"/>
            <a:ext cx="0" cy="109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300720" y="3428640"/>
            <a:ext cx="0" cy="190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3720" y="3716280"/>
            <a:ext cx="308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SE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or thread sees disable_count = 0 l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act: very minor increase in lat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36880" y="4351320"/>
            <a:ext cx="3087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SE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W write combining  inside the stor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or thread never sees disable_count =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act: very minor increase in lat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5099040"/>
            <a:ext cx="3087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SE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W write combining  inside the stor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or thread never sees disable_count =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act: potential race 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2600" y="6048360"/>
            <a:ext cx="308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SE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or thread sees disable_count = 1 l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pact: potential race 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1T23:28:22Z</dcterms:created>
  <dc:creator>weldon</dc:creator>
  <dc:description/>
  <dc:language>en-US</dc:language>
  <cp:lastModifiedBy>weldon</cp:lastModifiedBy>
  <dcterms:modified xsi:type="dcterms:W3CDTF">2007-08-20T17:15:29Z</dcterms:modified>
  <cp:revision>94</cp:revision>
  <dc:subject/>
  <dc:title>Thread State Diagrams</dc:title>
</cp:coreProperties>
</file>