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C81-85C8-464B-AC96-0EB38891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E4B-2A86-4644-ACFA-4BE1C4D3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4B02-1198-44D1-B61D-2427DA39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6B3-168D-4CAA-A275-17A2FB2A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79F-F366-40C8-952A-2A084898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03C-32B1-458B-96AF-981A71D8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F86-6974-4B23-9569-7D47C350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07A-2848-468C-8F71-AAD2576B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0DC-8238-4435-BBCE-21C5D8A2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E9A-3EDC-40AA-9E04-E8AC8313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647-64B5-4ECB-A0B8-0DD84A54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AB9-A96B-48FF-A979-4423B7E3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BD5E-E958-4DED-9BEE-490C26181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296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692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65960" y="2046240"/>
            <a:ext cx="989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82480" y="609480"/>
            <a:ext cx="418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4920" y="609480"/>
            <a:ext cx="845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419720" y="8377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83808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274840"/>
            <a:ext cx="202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65680" y="22748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7360" y="175248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 pointer 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676520"/>
            <a:ext cx="1447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5960" y="5170320"/>
            <a:ext cx="692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0" y="5170320"/>
            <a:ext cx="1817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CKED_ON_MONITOR_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5840" y="5170320"/>
            <a:ext cx="1055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OBJECT_W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6068880"/>
            <a:ext cx="350532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GC-able states on this diagram can be 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 suspend and java.lang.Thread.susp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hare the same safepoint proper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ve separate and distinct suspend/resume coun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4440" y="5170320"/>
            <a:ext cx="601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133720" y="2666520"/>
            <a:ext cx="5333760" cy="242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09880" y="2895120"/>
            <a:ext cx="3581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2895120"/>
            <a:ext cx="2438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172200" y="2743200"/>
            <a:ext cx="175248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05120" y="4343400"/>
            <a:ext cx="167616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657600" y="4343040"/>
            <a:ext cx="121932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4343040"/>
            <a:ext cx="91440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095880" y="4343400"/>
            <a:ext cx="53352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200" y="6019920"/>
            <a:ext cx="50864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lang.InterruptedException caused by java.lang.Thread.interrup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et exception -- see java.util.concurrent.locks.LockSupport.park()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_stop_call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m_shutdown_callback (moves any state to TERMINATED, not shown to reduce clutt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9920" y="4191120"/>
            <a:ext cx="479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040" y="3733920"/>
            <a:ext cx="283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   java.lang.Thread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   synchronized key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   java.lang.Objec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   j.util.concurrent.locks.LockSuppor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l)  stop and shutdown call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657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18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6840" y="762120"/>
            <a:ext cx="31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 GC-able states  (transition on thread-&gt;disable_count  set to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-able states (transition on thread-&gt;disable_count set to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67080" y="99036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52280" y="34290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43240" y="990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8196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744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12640" y="4648320"/>
            <a:ext cx="51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31840" y="46483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7720" y="2746440"/>
            <a:ext cx="17168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 GC-able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set 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vmti brea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IT back-branch po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762120"/>
            <a:ext cx="83844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0440" y="5335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72200" y="2209680"/>
            <a:ext cx="99072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4160" y="205740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22400" y="1482840"/>
            <a:ext cx="1012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NA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rty JNI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0800" y="152388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19720" y="1294920"/>
            <a:ext cx="457200" cy="68580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673600"/>
            <a:ext cx="297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VM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ses the following transitions: SUSPENDED, 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680" y="274680"/>
            <a:ext cx="86407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d Disable/Enable Timing Diagram ( no lock cmpxchg, no mf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5960" y="1873080"/>
            <a:ext cx="92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6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64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88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28800" y="187308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6496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496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8730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2924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628880" y="9525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9432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4320" y="18730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0072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95256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796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7960" y="18730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683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3480" y="952560"/>
            <a:ext cx="13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4680" y="325584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955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95560" y="23353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17880" y="233532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17880" y="325584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387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38760" y="233532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83400" y="233532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83400" y="325584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2011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01160" y="2335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33120" y="1717560"/>
            <a:ext cx="136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6000" y="909720"/>
            <a:ext cx="136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6360" y="1298520"/>
            <a:ext cx="19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 THREAD DO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2400" y="2681280"/>
            <a:ext cx="194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0" y="34290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16080" y="34290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28800" y="36021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83480" y="3429000"/>
            <a:ext cx="0" cy="27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01160" y="3429000"/>
            <a:ext cx="0" cy="27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83480" y="3602160"/>
            <a:ext cx="517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572000" y="3429000"/>
            <a:ext cx="0" cy="10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00720" y="342864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3720" y="371628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 disable_count = 0 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: very minor increase in la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36880" y="4351320"/>
            <a:ext cx="308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W write combining  inside the stor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never sees disable_count =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: very minor increase in la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5099040"/>
            <a:ext cx="308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W write combining  inside the stor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never sees disable_count =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: potential race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2600" y="604836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 disable_count = 1 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: potential race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23:28:22Z</dcterms:created>
  <dc:creator>weldon</dc:creator>
  <dc:description/>
  <dc:language>en-US</dc:language>
  <cp:lastModifiedBy>weldon</cp:lastModifiedBy>
  <dcterms:modified xsi:type="dcterms:W3CDTF">2007-08-20T17:15:29Z</dcterms:modified>
  <cp:revision>94</cp:revision>
  <dc:subject/>
  <dc:title>Thread State Diagrams</dc:title>
</cp:coreProperties>
</file>