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CA9B-6B12-4D3D-A191-17828AA4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4A52-DE5A-48C6-98FA-55AD209E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1E88-FA54-42F3-A21F-7E0F7E87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AE78-0110-47C1-9BBD-D920BB35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BF8-0863-47FC-ABFB-6DC20B58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852-86B0-4F63-8238-42E6C737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20F-867C-47F9-AD7B-9CA9B5FD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84D-72E5-41B5-8D9E-F4DD0EBE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0EF-B245-4F0F-BEEA-BAAD17D9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7DAB-B62B-471F-8331-4319AE27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040-677E-480E-9AC6-A71CF367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BE39-580D-462C-89B8-765EC497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EFA5-6C25-40D2-B05F-1CFEE19F5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2960" y="2046240"/>
            <a:ext cx="1007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av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i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6920" y="2046240"/>
            <a:ext cx="1007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at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i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65960" y="2046240"/>
            <a:ext cx="9892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at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e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82480" y="609480"/>
            <a:ext cx="4183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4920" y="609480"/>
            <a:ext cx="8452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419720" y="837720"/>
            <a:ext cx="8380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838080"/>
            <a:ext cx="5331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274840"/>
            <a:ext cx="202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65680" y="227484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7360" y="175248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ition v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 pointer va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1676520"/>
            <a:ext cx="14479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15960" y="5170320"/>
            <a:ext cx="692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97600" y="5170320"/>
            <a:ext cx="1817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CKED_ON_MONITOR_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5840" y="5170320"/>
            <a:ext cx="1055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_OBJECT_WA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6068880"/>
            <a:ext cx="350532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USPEND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GC-able states on this diagram can be suspend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C suspend and java.lang.Thread.susp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hare the same safepoint proper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ave separate and distinct suspend/resume count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4440" y="5170320"/>
            <a:ext cx="601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133720" y="2666520"/>
            <a:ext cx="5333760" cy="2427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809880" y="2895120"/>
            <a:ext cx="358164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2895120"/>
            <a:ext cx="243864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172200" y="2743200"/>
            <a:ext cx="175248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05120" y="4343400"/>
            <a:ext cx="1676160" cy="75096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657600" y="4343040"/>
            <a:ext cx="1219320" cy="76212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029200" y="4343040"/>
            <a:ext cx="914400" cy="76212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095880" y="4343400"/>
            <a:ext cx="533520" cy="75096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200" y="6019920"/>
            <a:ext cx="508644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lang.InterruptedException caused by java.lang.Thread.interrupt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iet exception -- see java.util.concurrent.locks.LockSupport.park()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_stop_call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m_shutdown_callback (moves any state to TERMINATED, not shown to reduce clutt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599920" y="4191120"/>
            <a:ext cx="479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3040" y="3733920"/>
            <a:ext cx="283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ition v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)   java.lang.Thread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)   synchronized key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   java.lang.Object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)   j.util.concurrent.locks.LockSupport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l)  stop and shutdown call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657600"/>
            <a:ext cx="25909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18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6840" y="762120"/>
            <a:ext cx="319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 GC-able states  (transition on thread-&gt;disable_count  set to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C-able states (transition on thread-&gt;disable_count set to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67080" y="990360"/>
            <a:ext cx="167652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52280" y="34290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943240" y="990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81960" y="464832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7440" y="464832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12640" y="4648320"/>
            <a:ext cx="51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31840" y="464832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7720" y="2746440"/>
            <a:ext cx="171684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 GC-able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av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set disable_count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jvmti break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JIT back-branch po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762120"/>
            <a:ext cx="838440" cy="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0440" y="53352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72200" y="2209680"/>
            <a:ext cx="990720" cy="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4160" y="205740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22400" y="1482840"/>
            <a:ext cx="1012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_NA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rty JNI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4872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20800" y="152388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19720" y="1294920"/>
            <a:ext cx="457200" cy="68580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673600"/>
            <a:ext cx="2971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VM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uses the following transitions: SUSPENDED, 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680" y="274680"/>
            <a:ext cx="86407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d Disable/Enable Timing Diagram ( no lock cmpxchg, no mf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85960" y="1873080"/>
            <a:ext cx="92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64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06480" y="9525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2880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28800" y="1873080"/>
            <a:ext cx="9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6496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49680" y="9525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187308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2924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628880" y="9525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9432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4320" y="187308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30072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00720" y="95256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796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57960" y="1873080"/>
            <a:ext cx="13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6834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83480" y="952560"/>
            <a:ext cx="138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4680" y="3255840"/>
            <a:ext cx="9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95560" y="23349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95560" y="233532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17880" y="233532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17880" y="3255840"/>
            <a:ext cx="9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938760" y="23349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38760" y="2335320"/>
            <a:ext cx="18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83400" y="233532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83400" y="3255840"/>
            <a:ext cx="24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201160" y="23349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01160" y="23353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33120" y="1717560"/>
            <a:ext cx="136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-&gt;disable_count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6000" y="909720"/>
            <a:ext cx="136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-&gt;disable_count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36360" y="1298520"/>
            <a:ext cx="19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GET THREAD DO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32400" y="2681280"/>
            <a:ext cx="194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SE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28800" y="342900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16080" y="342900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28800" y="36021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83480" y="3429000"/>
            <a:ext cx="0" cy="27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01160" y="3429000"/>
            <a:ext cx="0" cy="27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83480" y="3602160"/>
            <a:ext cx="517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572000" y="3429000"/>
            <a:ext cx="0" cy="10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300720" y="342864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3720" y="3716280"/>
            <a:ext cx="308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sees disable_count = 0 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act: very minor increase in lat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36880" y="4351320"/>
            <a:ext cx="3087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W write combining  inside the stor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never sees disable_count =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act: very minor increase in lat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5099040"/>
            <a:ext cx="3087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W write combining  inside the stor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never sees disable_count =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: potential race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2600" y="6048360"/>
            <a:ext cx="308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sees disable_count = 1 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: potential race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3680" y="274680"/>
            <a:ext cx="86407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d Disable/Enable Timing Diagram ( w/ lock cmpxchg &amp; mf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85960" y="1873080"/>
            <a:ext cx="92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8064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06480" y="9525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2880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28800" y="1873080"/>
            <a:ext cx="9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6496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49680" y="9525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187308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62924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628880" y="9525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9432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94320" y="187308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30072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00720" y="95256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5796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57960" y="1873080"/>
            <a:ext cx="13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6834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83480" y="952560"/>
            <a:ext cx="138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960" y="893880"/>
            <a:ext cx="136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-&gt;disable_count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f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d thread-&gt;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36360" y="1298520"/>
            <a:ext cx="19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GET THREAD DO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89640" y="2681280"/>
            <a:ext cx="194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SE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440" y="1695600"/>
            <a:ext cx="136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-&gt;disable_count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f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d thread-&gt;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85960" y="3313080"/>
            <a:ext cx="92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806480" y="23922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06480" y="239220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28800" y="23922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28800" y="3313080"/>
            <a:ext cx="9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649680" y="23922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49680" y="239220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23922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331308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629240" y="23922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628880" y="23922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94320" y="23922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94320" y="331308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300720" y="23922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239220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57960" y="23922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57960" y="3313080"/>
            <a:ext cx="13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683480" y="23922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83480" y="2392200"/>
            <a:ext cx="138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3601800"/>
            <a:ext cx="8229600" cy="25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1T23:28:22Z</dcterms:created>
  <dc:creator>weldon</dc:creator>
  <dc:description/>
  <dc:language>en-US</dc:language>
  <cp:lastModifiedBy>weldon</cp:lastModifiedBy>
  <dcterms:modified xsi:type="dcterms:W3CDTF">2007-08-19T14:10:51Z</dcterms:modified>
  <cp:revision>93</cp:revision>
  <dc:subject/>
  <dc:title>Thread State Diagrams</dc:title>
</cp:coreProperties>
</file>