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970-A068-4293-B03A-BE1AB8FE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D2F-E94B-4101-9C95-00059DE7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FAA-E9AB-4FD1-9C35-881CB190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E5D-A110-44A2-98A8-933BD4A5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2E1-CB6D-4645-BD8A-5C5F1532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30D-4386-4469-AF2C-E20DE91E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F36-C8A8-4B3B-A30F-C907BD4C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EB-0539-492A-90FA-B658D90F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86E-2749-4B71-AEB5-59685C6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365-AEB5-4C8D-B910-9342060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733-3FF6-4BAC-A86E-EA407D71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E963-9414-4745-A7FF-11F798A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57C2-7076-4781-8924-DA6B3188B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w/ lock cmpxchg &amp;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" y="89388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f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 thread-&gt;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-8964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440" y="1695600"/>
            <a:ext cx="136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fe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ad thread-&gt;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5960" y="331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8064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06480" y="23922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2880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28800" y="331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6496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49680" y="239220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31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62924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628880" y="23922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9432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94320" y="331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30072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00720" y="239220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5796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57960" y="331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683480" y="2392200"/>
            <a:ext cx="0" cy="9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83480" y="239220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601800"/>
            <a:ext cx="8229600" cy="25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19T14:10:51Z</dcterms:modified>
  <cp:revision>93</cp:revision>
  <dc:subject/>
  <dc:title>Thread State Diagrams</dc:title>
</cp:coreProperties>
</file>