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294-1789-4FF9-ABBE-BBF8BA2F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EC45-8461-43CC-B4F9-3FC83656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7BD-5C60-4E74-8344-376623A28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2F1F-1F6C-49C0-A387-946F6F1E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615-4431-4B09-8432-B49A0DB6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C20-98AF-440A-9079-CDF59B8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874-5DC2-4C91-B364-B9F5964B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5AA-BB71-4CC7-9B6C-67CE07FF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611-286E-41CC-BDC9-CB37E91E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2EB-65C9-4328-8305-F2B0389C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DC0-2707-4F6D-8E3F-3EAF3100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99F-4B35-4410-B272-E4E60CA2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5363-389F-40A0-A391-84518E93F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296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6920" y="2046240"/>
            <a:ext cx="1007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i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365960" y="2046240"/>
            <a:ext cx="98928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nat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spend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e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l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82480" y="609480"/>
            <a:ext cx="4183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4920" y="609480"/>
            <a:ext cx="8452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419720" y="837720"/>
            <a:ext cx="8380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05320" y="83808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274840"/>
            <a:ext cx="202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65680" y="227484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7360" y="1752480"/>
            <a:ext cx="125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 pointer 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1676520"/>
            <a:ext cx="14479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15960" y="5170320"/>
            <a:ext cx="692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EE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97600" y="5170320"/>
            <a:ext cx="18176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CKED_ON_MONITOR_EN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5840" y="5170320"/>
            <a:ext cx="10555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OBJECT_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10080" y="6068880"/>
            <a:ext cx="350532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 GC-able states on this diagram can be suspen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 suspend and java.lang.Thread.susp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hare the same safepoint proper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ave separate and distinct suspend/resume coun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4440" y="5170320"/>
            <a:ext cx="601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2666520"/>
            <a:ext cx="5333760" cy="2427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09880" y="2895120"/>
            <a:ext cx="3581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2895120"/>
            <a:ext cx="243864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6172200" y="2743200"/>
            <a:ext cx="175248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05120" y="4343400"/>
            <a:ext cx="167616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657600" y="4343040"/>
            <a:ext cx="121932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4343040"/>
            <a:ext cx="914400" cy="76212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095880" y="4343400"/>
            <a:ext cx="533520" cy="75096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9200" y="6019920"/>
            <a:ext cx="5086440" cy="70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lang.InterruptedException caused by java.lang.Thread.interrup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uiet exception -- see java.util.concurrent.locks.LockSupport.park()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ead_stop_call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m_shutdown_callback (moves any state to TERMINATED, not shown to reduce clutt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599920" y="4191120"/>
            <a:ext cx="4791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040" y="3733920"/>
            <a:ext cx="283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ition v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1)   java.lang.Thread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2)   synchronized keywo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3)   java.lang.Objec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4)   j.util.concurrent.locks.LockSupport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all)  stop and shutdown call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657600"/>
            <a:ext cx="259092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018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6840" y="762120"/>
            <a:ext cx="319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 GC-able states  (transition on thread-&gt;disable_count  set to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C-able states (transition on thread-&gt;disable_count set to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990360"/>
            <a:ext cx="167652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52280" y="34290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943240" y="990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8196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7440" y="4648320"/>
            <a:ext cx="43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12640" y="464832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Q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31840" y="46483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4480" y="2746440"/>
            <a:ext cx="23342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NNABLE GC-able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av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disable_count will always == 1 in this st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NOTE: this is the only exception to the ru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vmti brea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- JIT back-branch pol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762120"/>
            <a:ext cx="83844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60440" y="53352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2200" y="2209680"/>
            <a:ext cx="990720" cy="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4160" y="205740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22400" y="1482840"/>
            <a:ext cx="1012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_NA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rty JNI c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48720" y="182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20800" y="1523880"/>
            <a:ext cx="31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419720" y="1294920"/>
            <a:ext cx="457200" cy="685800"/>
          </a:xfrm>
          <a:prstGeom prst="line">
            <a:avLst/>
          </a:prstGeom>
          <a:ln cap="rnd" w="255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673600"/>
            <a:ext cx="2971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JVM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uses the following transitions: SUSPENDED, E, 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1T23:28:22Z</dcterms:created>
  <dc:creator>weldon</dc:creator>
  <dc:description/>
  <dc:language>en-US</dc:language>
  <cp:lastModifiedBy>weldon</cp:lastModifiedBy>
  <dcterms:modified xsi:type="dcterms:W3CDTF">2007-08-10T02:37:32Z</dcterms:modified>
  <cp:revision>74</cp:revision>
  <dc:subject/>
  <dc:title>Thread State Diagrams</dc:title>
</cp:coreProperties>
</file>