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E59-2B00-4E2A-807E-CB74034A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CB2-6132-42F6-AE01-10BD4BD2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588-017C-4D38-A0B3-2CF179AE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7E0-CA95-44ED-960D-9847280C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A1C3-8909-43A8-BAA0-AB67CDA2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177-1E5B-4F44-B60A-6836A993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FD5-B5B4-4750-8638-FD05248C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345-F533-4CE7-9C55-D5DACB49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90D-5821-4212-A9BD-EFB77894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D91-977A-4A28-BDD4-2AFF381F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179-E0FA-492E-8B51-4F590F7F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509-D731-42EF-AFC2-E18FCDE6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57A3-BFDA-43BE-B001-F06D117D0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692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65960" y="2046240"/>
            <a:ext cx="98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2480" y="609480"/>
            <a:ext cx="418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4920" y="609480"/>
            <a:ext cx="84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419720" y="8377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83808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274840"/>
            <a:ext cx="202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680" y="22748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7360" y="175248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 pointer 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6765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5960" y="5170320"/>
            <a:ext cx="69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0" y="5170320"/>
            <a:ext cx="181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CKED_ON_MONITOR_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5170320"/>
            <a:ext cx="1055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OBJECT_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6068880"/>
            <a:ext cx="350532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GC-able states on this diagram can be 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 suspend and java.lang.Thread.susp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re the same safepoint proper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ve separate and distinct suspend/resume coun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5170320"/>
            <a:ext cx="601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2666520"/>
            <a:ext cx="5333760" cy="242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09880" y="2895120"/>
            <a:ext cx="3581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2895120"/>
            <a:ext cx="2438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72200" y="27432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05120" y="4343400"/>
            <a:ext cx="167616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4343040"/>
            <a:ext cx="91440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5880" y="4343400"/>
            <a:ext cx="53352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00" y="6019920"/>
            <a:ext cx="50864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lang.InterruptedException caused by java.lang.Thread.interrup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et exception -- see java.util.concurrent.locks.LockSupport.park()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_stop_call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m_shutdown_callback (moves any state to TERMINATED, not shown to reduce clutt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9920" y="4191120"/>
            <a:ext cx="479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040" y="3733920"/>
            <a:ext cx="283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   java.lang.Thread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   synchronized key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   java.lang.Objec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   j.util.concurrent.locks.LockSuppor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)  stop and shutdown call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1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6840" y="762120"/>
            <a:ext cx="3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 GC-able states  (transition on thread-&gt;disable_count  set to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-able states (transition on thread-&gt;disable_count set to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99036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52280" y="3429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990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8196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744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2640" y="464832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31840" y="46483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4480" y="2746440"/>
            <a:ext cx="2334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 GC-able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disable_count will always == 1 in this 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NOTE: this is the only exception to the ru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vmti brea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IT back-branch p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762120"/>
            <a:ext cx="83844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0440" y="5335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2200" y="2209680"/>
            <a:ext cx="99072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4160" y="205740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22400" y="1482840"/>
            <a:ext cx="1012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NA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rty JNI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0800" y="152388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1294920"/>
            <a:ext cx="457200" cy="6858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6736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VM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the following transitions: SUSPENDED, 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3:28:22Z</dcterms:created>
  <dc:creator>weldon</dc:creator>
  <dc:description/>
  <dc:language>en-US</dc:language>
  <cp:lastModifiedBy>weldon</cp:lastModifiedBy>
  <dcterms:modified xsi:type="dcterms:W3CDTF">2007-08-10T02:37:32Z</dcterms:modified>
  <cp:revision>74</cp:revision>
  <dc:subject/>
  <dc:title>Thread State Diagrams</dc:title>
</cp:coreProperties>
</file>